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D3C-618C-45C3-84AA-758D5054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5C7-73EA-4370-A8CE-BAABC00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EF8DB-9039-4412-99C2-92BC9A6B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73B0E-24C6-489A-A272-6EC1CA03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46004-2709-4A5A-BC61-112AC66F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23C2-5075-4FE5-A234-4D1DDE3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FDB29-565D-4C4D-8C6B-615BAA9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86C95-14ED-4D88-88D3-BA6E805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67859-D6C3-4B1B-AC58-AC0D5AD1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1A357-CD84-4AEA-9C59-9957834B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70BD8-8870-4256-93AA-DEA8D72D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A3798-AB52-424E-81F8-645C784B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FD5-360E-40B5-843E-B2048E08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F9BF5-EDC8-480A-BDBF-2588C326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349F1-6606-4CA9-8CF4-3F3B840D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D708B-5606-496D-B0D9-F980F94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77401-BC47-4146-8738-DF9F3C98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DF519-689A-4B51-8B60-2502E9D4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7B3B8-2CC5-4590-B786-320A6D4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4B512-E4ED-4EA2-9DF1-E675186A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22559-D00D-4F6F-B8CD-CCF5DF7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E8B94-1C10-4CEB-B518-7069B5F9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67AB6-7675-46B9-8B32-E13F0DDD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987-C708-4A0E-880E-920DE207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01ABB-4B99-4E6D-BFFD-CD83616F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ED9A6-D78C-45DA-BF84-8B52A982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8E5AF-8619-4039-AA1E-16196A95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FAE1D-B7C7-4C08-BBC6-C6C06F7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3C90E-F2F6-46CA-8E71-048D8148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C345E-2057-408B-B5F9-64AB92DF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70C2F-E872-45C9-A7F8-87C80435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C6289-9CDB-41D6-8B90-16599A82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FD5A2-B8CB-42AB-8CCA-DD680DE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DE41D-9019-48D4-A10B-68B6CA2C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22BA-0257-43FA-BEC8-0994879D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90D41-318E-4709-9051-D32A9AE0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256F1-B3AF-4838-8214-488126E8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9CF5F-3D85-4689-9A69-356A9D62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FD85C-96A0-4AE2-A46F-AC37BBA9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3C710-DBE3-4DB7-9739-8469E213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ED725-31B2-4E20-A01B-75EDFC1E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79526-1885-4B9E-A256-11E1E64F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98DC1-FDE4-4317-8D42-FC287A00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AFC80-DD10-4542-B45B-3F93CD8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39090-5B79-4029-BE66-7636ED9D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DA52-6424-4EB1-A7C1-C3178DB8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FF01E-E340-4DBC-B3DF-DE73DFF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AD21B-D0DA-4C78-85CE-418B9DBE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14469-C3E0-411E-83CB-5C6BA873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4DE08-8656-4BE1-84E2-24FCC5E6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5ADE6-D306-4B1A-B609-AE5BF461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E567B-CDDC-40F9-9361-A4EEA9F7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A59FD-791D-4F1C-8BB6-5CD70F81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E9D1B-1415-4CFB-9276-4E9F4C6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45D8F-9CC4-4DA9-B387-9A7A5F9B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DC89B-BFE0-4A09-87CB-6381EF6B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B3E-00BF-4036-9E6F-10EF47F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4495E-026B-44CF-B68A-1B3736E4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95BFB-D2B1-41F7-AC2D-19D838B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C3E49-43DC-4B1A-AC32-3B20FE5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D6860-875A-4940-A0FE-8CC8BE9D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E688A-3979-4771-9936-1ADDE5A2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4CAA7-B2F6-4939-9364-7076197F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7E1D0-395D-4DAA-B357-37BD1E6E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B640C-9FBB-4B63-9455-C75B2662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6C4DF-F495-40F5-BD09-D6080E27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5FEB7-07AE-4ED5-B2CF-3546744F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47FE-CB3E-4911-A4EF-6D85F54B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CC639-C9B3-4FEC-BC5C-AC5AC199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EF3E8-BA2D-43B9-9C46-028383A3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2D5A7-6FAB-4E09-BB8B-51A409BE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7069E-AF11-4B00-AF4A-5F3682AC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43B13-FFF6-4386-8E80-EB6A7F45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5D1F6-072E-4A52-A7C6-2BDAEEA8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A1195-2FD4-4F54-B62C-6C5F765E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2B0D1-DF21-4916-B9AE-B3341DA9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1BF2D-71A8-451A-A0FA-311BB3F9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7DFEB-00C0-438D-A557-DAB57C5A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174A-124A-404A-8877-B6FD81C3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D2240-7622-4F9C-B45E-3F0CCA3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27E62-A48D-4B77-B7BE-A55BDE8C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9C3C9-01E1-4336-A5F1-B3B2C59C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64A3B-2C06-40CF-BD78-68387341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A5798-1513-409C-B24F-5536B2F7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CF8DC-685F-4D60-946A-49129DF0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CA4AC-6B4E-4B45-B965-55ED81B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58E8E-E165-4518-A91E-0068460E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05A9C-C37E-4A5E-BF21-D559CDA0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18406-FABE-45E0-8FFB-E84690E3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2A94-7C68-4D88-93FD-B80D9BF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C2BAF-E31D-49DE-8095-8D80BFF4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EB800-4B09-4310-A9C5-1A2AD36A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E2C89-829D-42D6-B5BA-DD4C997F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4E505-FDEA-47C8-821B-7E296659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244C0-EE94-4979-8DFB-8747040D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38678-FD45-4BA7-8CB0-DC991A80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46572-6F23-41F4-BA8A-D1EBD693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3DEF2-0B99-476D-90BD-7708CCC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01D97-7468-49D3-8D6D-138FB6AD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E550E-A4E2-4B89-887A-C694143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33C3-8B2F-4BD0-9AFF-CAD5AB2E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43F32-B6AE-4AAE-855B-E50E14D7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67C50-99FB-4C80-B088-2ED6D94B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F998D-8E10-4FC0-9176-DD38C08B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1602A-F482-46E5-9A20-A3930A68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2E30A-02A8-41A9-96E6-07AF4A4F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43B69-41FB-4E8D-9CCB-5210ED68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4BAEF-79A8-40DF-8418-A53A37C2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47D057-B891-441D-BDC0-C5F96824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139DB-8F14-4111-9428-8C36E8AA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11133-14A3-454E-B897-3627D8E4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1F0-0694-414E-B5DA-70C650C5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979B-B8C1-4440-8A6F-30EB8A3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C4C06-FACB-49FF-8244-C4CA20A8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08CC3-4357-49CE-9B9C-4DBDE3B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C6249-E86B-4734-89F3-C23C0C36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5662B-48D8-42E9-8D4C-D9668B85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2578E-6553-4A19-8895-4EA6A564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B0E69-7EC6-405E-8FE3-2912B378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B6A6BF-B3F9-4F5E-8551-664F0C66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460D6-4707-4114-8E5E-C3E23A1D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F586EA-7387-45A3-9DAF-D4CB4B20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15A8A-95D8-432D-907E-993F4B1C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B5BB-F02A-4597-9DB9-17B65172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B84F2-2497-4B50-8446-BC6E124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69C42-54FE-424B-89CA-0B30DE3D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E16EB-6CE9-41E9-8DC1-11417371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1DB5F-E2EB-4032-BD45-F457EA38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B7649-CEC4-44A8-AE74-BA5AAE73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B71BC-2BC0-4B06-8FAC-4166D0A3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0E0E5-403C-4542-A589-10F93D2E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E203E-5BA1-467C-B466-99D8ADDE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231EF-ADDF-4C84-8C6E-BDF75757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E9B430-284D-466A-9949-A0F0CC34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84CC-A991-4DAE-AB88-835E0190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D8ACD-B99F-4A83-976D-F34B37FE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808D8-EB76-4B33-89A8-A5E275CA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E5267-6913-463E-9C5B-1ED83BC3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CAA36-15CE-40E9-9E0F-26CBE41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F651B-FD97-47D0-A1B7-94EE951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988DC4-73B5-4ABA-BBCE-F323380B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AD8F73-9F34-4D73-8AD1-9FEC4261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69A17-6D3B-441B-A401-78CDE869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EB4B0-8939-40A6-9E0F-3E1D160C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F28B9-CECA-45E7-9F28-E5DB8119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218D-D681-48E1-82D1-0FC9DFEA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F1B7B-FD98-4448-8574-EAECA269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EEA7F-2CB1-413A-ACB2-85A581A1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BEC23-8D8B-484C-842A-3EA0DC7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0DA79-6794-40F7-80E9-2D36FC92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3ADA66-A3C0-4975-8A9F-60E08047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11D652-F957-447F-9CD5-DC11611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59158F-5888-4F2A-952C-19CAC747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2B3BB-F7B3-4002-8FA9-97FB215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063AC-4EC3-4C35-87B9-4D5A63ED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E43182-E1A4-40A0-9615-DC745EEE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B507-790D-4F85-8577-2E160D42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D3207-F500-4AB4-98AF-8D3B371A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FBAED6-DE84-4053-93A9-40E6AADB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3B403-16DA-481A-AAAF-CC5E2DAE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A5A9B-1832-41BC-BB70-ED710ED8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EE114-E446-41B5-9B13-12656B7D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35A30-D956-4638-80C9-BCF8AF99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F3DBD-2419-46A6-BF24-C29C444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4139BF-3539-46E0-B8C5-88ACCF6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3DA32-0D6B-4126-A4E1-6E3EA52E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93D47-07A2-4DBF-89AC-3A805D42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D550-6ED8-47AC-AEC1-1ACE9E7A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D0D9C-54E7-4E28-BC8D-7252F56F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31948A-AB05-46AB-96AE-F7FFCE95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9AE0A-C620-4C5D-81FD-548F75D2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7DA4-DB42-4450-8A2D-97CB90C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F101-1457-46CB-9BAF-94F5C2A2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4E77-3B2D-4172-90CD-337347D3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45C8-B096-4693-B855-F135FF04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50C-0DD5-4C44-AB65-4A1184A4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055F-91CA-471C-A734-DEEC5868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6AD5-A687-4C07-A1BE-84F632FE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9F1D-87B7-4CBA-9808-760FFF90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D3448-9651-499E-AA6F-DE07656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0901-DDEE-4EDB-95BB-3BAF67B2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ED62-27A5-440F-A195-562EF5FD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C3A7-FAD4-4855-913F-C7C1C8FD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D935-4F5B-49CA-BBE7-9CA8F23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A9AA-EB36-4D76-A277-304E937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0FC4-CE8A-4744-BED9-4DF12DCC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15E-E805-46B8-B424-D0E5E53A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55F5-5E4F-4702-AB8B-0BFAA19F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1BFA-B1DA-46BC-842C-F003E4D0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C3EF-FC5B-46D1-B3C0-0323B7EA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941B7-F9A3-4471-BDAC-EAF988B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C26F-1EF7-44E8-802E-73E06AE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CAE4-208B-4085-9617-6804B7C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E9FE-CB96-43BC-949C-643373A3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5BF6B-6EAE-4DCB-B188-6BAFEB97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D254-3987-4A2D-8B65-371855A6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A21B-C17B-40C8-9413-EA54F38E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5AA-A55A-4B19-9DD9-D7ECB3E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106D-6184-4800-8BE0-63A40226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17DD0-BF68-4888-A49E-B2F8393E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2AE9-7EDE-4A15-9372-17915CA9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35FCA-6C58-4AFD-980D-48E1B84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C2A99-B296-4A42-AB3C-10A55E87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B335-9470-4053-B67F-37FEB605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780B-F7E1-4DC5-9840-4C824BA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294B-2322-43A6-94A1-3433DC6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D54B-FF81-4FCE-B8EE-A0E3AB6F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0585C-A1A7-4004-94BB-AE2C76A3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507-9053-4DC9-B10E-B37DD5B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522B7-822F-4FF7-B0C4-4FEF3996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C5C19-928A-4F39-88BA-B752E4C0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8D2F3-3122-4973-BD79-425EBAC5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4D16-92C8-4367-ADFC-0E3D7FA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CCD9D-5362-45C5-A31A-162D6BD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8B53F-4858-416E-884F-8F155B3F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0D4E8-0266-4EC8-8D8E-0D3715B5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46B1-5B42-4D2A-9442-9451AF6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0243B-13C7-41DA-A6E0-125AAE6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77E3-7060-470E-8BD5-B234CA9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529-FF11-4C04-91E2-1B04EEC2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E6454-0A9D-48BF-BA1E-60E5F842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4674-A82C-4A1D-818C-108C7178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DB351-18A9-4472-825B-FD4E659A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BEAE6-DE87-458E-9C4E-F83251EC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85C7-F228-4BCE-AA78-266BF3FA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DD099-3904-43CD-A5BF-4FBCF0A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EE18D-B8E1-48B6-A9FE-192B0D7E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B9811-B050-4AD6-B264-B725FDE7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F05A9-BB58-4163-9601-EE0DFBD4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8D7F1-7F19-40C5-BF7C-53E9A66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C1D-FFB0-4942-AA41-07D9F2EB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F2E65-A9E4-4217-BE51-C10C6D80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F34B4-7BD9-4029-B47C-9698848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7DA22-B90A-4E42-9791-DDB506F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9C725-B249-4DBD-B26E-73868693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F9D6-6DF6-40A7-8D72-BCC8E356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9CCA6-7CB6-440E-BF31-E4CF98F6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434F1-A499-47E5-92B2-E002CA82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56C90-13F2-4243-8482-04C9BC36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79292-265E-4634-8B10-FD516D58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967F9-7EB0-4A8F-BF4D-307EC3AE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4FE-B473-4A6A-9E0D-869E2452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5A401-70B6-4343-9A89-640E18B5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46EED-2D9B-4FED-A0E7-FF75181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45273-67BD-4227-AB4C-E230279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CFF8-D224-4B43-91EF-5E27665F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BCB09-1608-466F-9B38-E2DD8559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C8944-DAD1-41C9-9CD6-F518115B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4316-61FD-419E-AC14-F6FBEE21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50B58-B2A3-428F-898A-6683CFCC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462E5-C20A-48B4-A2A1-07935E8C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FC2AB-5600-4E14-AA72-FA4BA8C4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4002-4817-4F7D-9F2E-038CD4B14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9F9E-A064-4FC9-A92D-66C9B02B9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E46E-25B0-4EDB-909B-4D7FF3C96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04F3-08C1-497F-823A-EB95902BA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A82-A23D-4BF2-94BB-3AEC9C10BF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31CC-CB1E-4824-B3FA-C7E593B293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C066-9019-4680-8C70-B7188CC2A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00DF-7D7A-4648-AE1D-0075F88EC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98B8-1D2D-4D2D-97B1-AEE682E621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EC9-0764-4E1E-BF7D-3EEF473E7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5421-3BE3-40A1-BADC-01640EC01C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257B-CCF2-4D85-8AF7-76CF403F53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F636-EB71-4320-9AEF-8766CE92C0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F82-9FA8-4EE6-BD20-86633B4174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ED1-38BF-4EDF-B201-8638BCBF9E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8C2-5CA2-4814-8BDC-B2BA03E88E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C58-2CC2-4819-AFAA-0BCDFD33AE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117-B00B-4964-8595-4B263403E6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5684-57B1-4CC2-B4B2-D6717404B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1BA2-6D51-4C36-91BC-44A93EB52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CA8-F0B7-48BD-8BA7-839904ECC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8376-602C-4A32-B6EE-C270767A4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0E6C-BE39-424F-A64C-74948F738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1A22-927A-4D92-9409-930E005E1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3B56-041D-44E2-9D89-D6DF197E4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EDDC-852A-4727-960C-1BE429CDB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683-1B55-4D2C-ACC9-BCF0CFB180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7010-D0AC-4791-83BD-C3AE2F75ED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EB62-77EC-4AF6-82E8-E45ABB4E9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2E5C-0342-41E3-B7CF-E57439BD1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C5D-9A54-4418-9145-99C31C1148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6874-A719-45F7-8443-8888D6CD14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F77C-76E5-4DAB-9F1C-46DC989D4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4B05-ACAF-4D1B-A480-F6F20BE123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5C30-3ABC-47D4-A274-5D30B2C13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B623-D8F6-498F-95D0-D19EFFFE59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8765-6C66-4396-8BB7-9FBA86C2B7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B579-0D7A-4A47-8B5A-4FFEBB3FC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0000-1058-4C78-A945-124F237BED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41AF-7F10-4E82-AFCD-43A9CCED25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6000" y="3024360"/>
            <a:ext cx="457200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57200" y="162000"/>
            <a:ext cx="8229600" cy="6534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627280" y="30542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313160" y="3068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35640" y="3068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516720" y="30114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596360" y="3068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627280" y="59929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356000" y="59641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435640" y="6021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443640" y="595008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596360" y="596412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1000080" y="1119240"/>
            <a:ext cx="7143840" cy="461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050920" y="31114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493236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940360" y="31417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6948360" y="31273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5580000" y="43070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5580000" y="473868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5580000" y="5172120"/>
            <a:ext cx="10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795240" y="866880"/>
            <a:ext cx="7553520" cy="5657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325600" y="2852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148360" y="2852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156360" y="2852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7149960" y="28670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2354400" y="579132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4095720" y="57913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5176800" y="57913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6184800" y="57913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7178760" y="5805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7352" descr=""/>
          <p:cNvPicPr/>
          <p:nvPr/>
        </p:nvPicPr>
        <p:blipFill>
          <a:blip r:embed="rId1"/>
          <a:stretch/>
        </p:blipFill>
        <p:spPr>
          <a:xfrm>
            <a:off x="1023840" y="1033560"/>
            <a:ext cx="7096320" cy="47908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4932360" y="3068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5940360" y="3068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6962760" y="30686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5853240" y="41925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5867280" y="466740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5911920" y="508464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6324" descr=""/>
          <p:cNvPicPr/>
          <p:nvPr/>
        </p:nvPicPr>
        <p:blipFill>
          <a:blip r:embed="rId1"/>
          <a:stretch/>
        </p:blipFill>
        <p:spPr>
          <a:xfrm>
            <a:off x="281160" y="1343160"/>
            <a:ext cx="8581680" cy="4171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2901960" y="292428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7020000" y="293832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3059280" y="36021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020000" y="36021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2843280" y="42926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6948360" y="42926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3059280" y="497052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7020000" y="4970520"/>
            <a:ext cx="1150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5300" descr=""/>
          <p:cNvPicPr/>
          <p:nvPr/>
        </p:nvPicPr>
        <p:blipFill>
          <a:blip r:embed="rId1"/>
          <a:stretch/>
        </p:blipFill>
        <p:spPr>
          <a:xfrm>
            <a:off x="304920" y="657360"/>
            <a:ext cx="8534160" cy="55432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684360" y="3659040"/>
            <a:ext cx="828036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8280360" cy="4474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611280" y="5013360"/>
            <a:ext cx="828036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539640" y="5705640"/>
            <a:ext cx="828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4276" descr=""/>
          <p:cNvPicPr/>
          <p:nvPr/>
        </p:nvPicPr>
        <p:blipFill>
          <a:blip r:embed="rId1"/>
          <a:stretch/>
        </p:blipFill>
        <p:spPr>
          <a:xfrm>
            <a:off x="285840" y="281160"/>
            <a:ext cx="8572320" cy="62956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755640" y="396252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539640" y="471024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539640" y="541656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684360" y="6107040"/>
            <a:ext cx="54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52231" descr=""/>
          <p:cNvPicPr/>
          <p:nvPr/>
        </p:nvPicPr>
        <p:blipFill>
          <a:blip r:embed="rId1"/>
          <a:stretch/>
        </p:blipFill>
        <p:spPr>
          <a:xfrm>
            <a:off x="271440" y="1004760"/>
            <a:ext cx="8601120" cy="4848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2"/>
          <a:stretch/>
        </p:blipFill>
        <p:spPr>
          <a:xfrm>
            <a:off x="2484360" y="25938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3"/>
          <a:stretch/>
        </p:blipFill>
        <p:spPr>
          <a:xfrm>
            <a:off x="4643280" y="259380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4"/>
          <a:stretch/>
        </p:blipFill>
        <p:spPr>
          <a:xfrm>
            <a:off x="2411280" y="328464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5"/>
          <a:stretch/>
        </p:blipFill>
        <p:spPr>
          <a:xfrm>
            <a:off x="4356000" y="32986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6"/>
          <a:stretch/>
        </p:blipFill>
        <p:spPr>
          <a:xfrm>
            <a:off x="2484360" y="39625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7"/>
          <a:stretch/>
        </p:blipFill>
        <p:spPr>
          <a:xfrm>
            <a:off x="4643280" y="40053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8"/>
          <a:stretch/>
        </p:blipFill>
        <p:spPr>
          <a:xfrm>
            <a:off x="2627280" y="4653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9"/>
          <a:stretch/>
        </p:blipFill>
        <p:spPr>
          <a:xfrm>
            <a:off x="4643280" y="4653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0"/>
          <a:stretch/>
        </p:blipFill>
        <p:spPr>
          <a:xfrm>
            <a:off x="900000" y="5373720"/>
            <a:ext cx="42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11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